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70BE-6F05-4449-99E1-463EC48DC5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51C7-55B0-4264-AC46-E880CC9D6D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B9E8-98D0-4668-8329-2413033BB9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8C5-16CE-4450-AFEB-0A162FD012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8CF-708B-46FB-AB4D-F5B3252E4D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라고 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她的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汉语老师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韩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n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不是中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学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she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日本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ìběn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我朋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친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éngy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他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nm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美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朋友是美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미국인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ěi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英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英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국인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람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28400" y="749844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굴림"/>
              </a:rPr>
              <a:t>加拿大人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加拿大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캐나다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nádà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叫什么名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íngz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认识他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사람 등을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알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ènsh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认识你很高兴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您贵姓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성함이 무엇입니까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ì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姓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성이 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叫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5768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치파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전통 의상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p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1:45:25Z</dcterms:modified>
  <cp:revision>87</cp:revision>
  <dc:subject/>
  <dc:title>슬라이드 1</dc:title>
</cp:coreProperties>
</file>